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8BA-6ACF-4EEF-BB25-F8F33C5F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EEB-393B-4FCD-826D-2F682CFD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571-5C9D-4451-B1A8-5A598B8D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E2F-135B-4C89-804A-EC636143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E80-B1DF-4DAE-8DD3-944E429E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C7B-55A0-4D1F-BD13-543BD6EE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E5C-DC82-48F2-8351-4E418FC4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0AF-13BB-469B-9845-E64B50F1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48C-0B3C-49D5-9D06-F12A4142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9CC-52B9-4CA0-9975-CB28B75C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817-1FC5-44D6-869A-F428F4D5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47E-896B-4335-8A7B-65CC229B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B344-696A-4695-A7CE-1EF66A5B7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results?search_query=google+docs+in+plain+english&amp;search_type=&amp;aq=-1&amp;oq=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2338560"/>
            <a:ext cx="6775200" cy="271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54520" y="4232160"/>
            <a:ext cx="1689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Do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48480" y="4368960"/>
            <a:ext cx="10969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cc"/>
                </a:solidFill>
                <a:latin typeface="Tahoma"/>
              </a:rPr>
              <a:t>BE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0240" y="838080"/>
            <a:ext cx="863604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cover4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20315" t="16666" r="49219" b="76045"/>
          <a:stretch/>
        </p:blipFill>
        <p:spPr>
          <a:xfrm>
            <a:off x="2489040" y="5410080"/>
            <a:ext cx="48006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240" y="838080"/>
            <a:ext cx="863604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0676" t="20835" r="29949" b="55210"/>
          <a:stretch/>
        </p:blipFill>
        <p:spPr>
          <a:xfrm>
            <a:off x="1879560" y="2666880"/>
            <a:ext cx="5791320" cy="1752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19791" r="45576" b="72919"/>
          <a:stretch/>
        </p:blipFill>
        <p:spPr>
          <a:xfrm>
            <a:off x="2158920" y="4826160"/>
            <a:ext cx="58165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0240" y="609480"/>
            <a:ext cx="863604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6560" y="1447920"/>
            <a:ext cx="6870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ogle For Educators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oo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26 June 2008 &lt;http://www.google.com/educators/weeklyreader.html&gt;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learning &gt; &gt; Google Docs &gt; December 14, 2007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chLEARNING.com | Technology &amp; Learning - The Resource for Education Technology Lead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14 Dec. 2007. 26 June 2008 &lt;http://www.techlearning.com/showArticle.php?articleID=196604848&gt;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6560" y="357948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ndrimmelen, Jeff. " Google Docs’ Academic Potential and Importance at EduTechie.com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iatus at EduTechie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2 Nov. 2006. 26 June 2008 &lt;http://www.edutechie.com/2006/11/google-docs-education/&gt;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4570200"/>
            <a:ext cx="69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ndrimmelen, Jeff. " Google Docs’ Academic Potential and Importance at EduTechie.com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iatus at EduTechie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2 Nov. 2006. 26 June 2008 &lt;http://www.edutechie.com/2006/11/google-docs-education/&gt;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4720" y="5682600"/>
            <a:ext cx="59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Official Google Docs Blog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fficial Google Docs Blo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1 Jan. 1001. 26 June 2008 &lt;http://googledocs.blogspot.co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3640" y="147168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An Introduction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4280" y="3595680"/>
            <a:ext cx="8991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y Lynn Zottn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keview Summer Technology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uly/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0240" y="99072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46040" y="3260880"/>
            <a:ext cx="94489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 What is it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Docs in Edu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Getting Start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4.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6800" y="2117880"/>
            <a:ext cx="41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Google Docs 1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03240" y="3352680"/>
            <a:ext cx="6470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Google Docs in Plain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240" y="11430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What is 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8960" y="23623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Internet bas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560" y="3429000"/>
            <a:ext cx="89694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s, spreadsheets and present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70280" y="4068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1360" y="4906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up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99280" y="4114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down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89640" y="5486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98680" y="54864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ollabo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96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pub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3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0240" y="99072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Cool Fea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46040" y="2392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4/7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1360" y="32767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miliar softwar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0240" y="33829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utomatic s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32240" y="47242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tains all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46040" y="441972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dividual contributions iden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37160" y="2438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0712000">
            <a:off x="2870280" y="3325320"/>
            <a:ext cx="41148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It’s Fre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0240" y="99072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Docs in the Classro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6560" y="2575080"/>
            <a:ext cx="9296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can compose/create collabora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89040" y="3306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nline &amp; in Real Ti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95800" y="4373640"/>
            <a:ext cx="66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 learn writing as a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400" y="5135400"/>
            <a:ext cx="92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ncourages multiple revisions &amp; peer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0240" y="99072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Docs in the Classro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240" y="2895480"/>
            <a:ext cx="929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redom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buster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necessary but tedious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5880" y="4267080"/>
            <a:ext cx="85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inforces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1</a:t>
            </a:r>
            <a:r>
              <a:rPr b="1" lang="en-US" sz="3200" spc="-1" strike="noStrike" baseline="30000">
                <a:solidFill>
                  <a:srgbClr val="ffcc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ntury digital learn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31640" y="655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914400"/>
            <a:ext cx="922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5680" y="69343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5680" y="533520"/>
            <a:ext cx="9448560" cy="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0240" y="99072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Getting Started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67190" t="26042" r="5467" b="29168"/>
          <a:stretch/>
        </p:blipFill>
        <p:spPr>
          <a:xfrm>
            <a:off x="5842080" y="2057400"/>
            <a:ext cx="3409920" cy="4191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74640" y="2895480"/>
            <a:ext cx="3353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Google accou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akeview</cp:lastModifiedBy>
  <dcterms:modified xsi:type="dcterms:W3CDTF">2008-07-21T20:24:13Z</dcterms:modified>
  <cp:revision>71</cp:revision>
  <dc:subject/>
  <dc:title>PowerPoint Presentation</dc:title>
</cp:coreProperties>
</file>